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449-4233-4729-B601-48013CCA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175-0FAC-4E25-A635-F8BA0D13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E42B-F716-42C4-9659-5CC28C29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067C-588F-4695-9EB1-D1BDD90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1D545-4A75-492D-B2B9-7B1BD327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2D9AF-A759-4B3D-A52B-E0ACDA8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40BC0-C61A-4410-920F-121FCE5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5B32-1391-4B33-B5B4-8645914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84B7-5FEB-4827-8B60-C76F9DD6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04E4B-CC35-4D4B-92CF-4F79DFDF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7FEF1-5713-422F-A91A-1F082022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B7BEA-2742-4E1B-8231-F4B1E83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15D-F9C4-4170-9E22-2B693230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006AC-AF98-4492-BB77-2A6CF246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182C4-4A00-4495-9DAB-87161CB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67077-A481-4E71-A34A-F770A55F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30C92-E40F-4FA5-8732-D502713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2407-E7D6-4E59-9FDF-7EBCEEEC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4B3A-3475-4BEF-BF22-730DAF4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53057-59AD-45A9-80C7-D96662A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5DF6D-5DB6-4D9A-B9C6-0B912AE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02C93-D0CB-4E22-8D74-44225E0E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21FBC-7CC9-4ECC-A0CA-80C16582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22A-9BFC-4F62-95FF-09B3ABDF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BEC04-E7E8-4543-BD6F-1F900C2D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1A94-C5CC-4CAE-B275-F1F78CE1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EE0FC-1D7A-4EFE-AC64-7A8C9AA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08BCD-091A-45B6-B994-9D1516E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24EE-8BE0-4180-B602-54E65E6C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662C-AB93-4492-937C-E403FFB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88B30-21C3-4A17-BA8D-CF1202A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4E25-DA24-485D-82DC-216B082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4D09-B792-4FD5-9E84-54269D1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1BFB-CF07-4320-8611-785246F5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EEC7-0307-4962-B7C8-C90C4ADE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44B15-9591-4AEF-AEB4-0915056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A0150-1336-4CBD-9F8A-7D955AA1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1592-336B-4703-AA35-A385D550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188B1-F81E-428F-8877-23FEEBCB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F0D6D-6F0B-4FC9-AD50-47176B16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496CF-8C99-4A97-85E9-4840CB5A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C6CB8-B6A5-4859-91AD-41686BAA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4548B-8A19-4720-90DF-8D0DE7BA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82C69-43B0-4B65-B267-86D1B836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20145-1A54-4317-9A89-993BB65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5C99-2A3A-4959-8BD7-FEE49F2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41A03-4A93-4948-ADB9-1109376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3D67A-E581-4F28-8727-9738170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24D72-5A49-4B03-8A2F-C9599E54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4C77A-E888-46E2-AC6E-AB1D6EA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2BDEA-74DE-4A4A-915B-245C452F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895DA-0507-44C7-945D-E0C733F5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8F808-42AD-48A0-8968-ECD246F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48F14-CB8F-488F-8203-7DB55B54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9DFE5-15F1-4CB0-8B7C-270BE1C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BBA6C-850B-4C3A-86E0-628D18E5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5DD-124A-4B3B-94C1-073DE47E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06DB7-DB8F-4A9B-8539-8A53492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CA655-70A3-4B9D-89D0-9F70FFD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50360-9458-4DEE-A2AE-E6E3309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F3DDE-ED22-4C1A-9007-A57B6C5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83684-7FB7-4496-B197-44EAAB72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B58BF-123F-4AE2-A143-A3B489C1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581E7-C071-42A4-AB51-75049BC2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B0579-F6D1-4756-A452-EE0F25AB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F9BE2-C0DC-492E-95E4-5685C321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B4F89-9ABD-4882-9A07-0F6E546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316-3F9D-45C7-B920-40743798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0DBD4-2E2B-40D1-AF63-A4C8894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5723A-C806-41C0-AC43-7104CF9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1458E-2012-4517-B4E5-FBBFB9B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FF908-E051-45DC-B2DF-7B4EF81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C9E48-E470-49CA-BA72-6ECD0F7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60F69-3F00-45BA-9321-00193BE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EC9AE-8965-443B-849B-9C1018F1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A7FE1-934E-4282-B4AA-C6048B01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0B132-BC07-4518-B7CF-F7BFCB4F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E73EE-23A0-4977-B970-FCA02345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584-EFED-4C5E-A45F-507ED91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C22C9-3B6F-418F-A337-C1451FD4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0E3D2-E925-4106-B8A9-DA4FD3C4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F1174-F1FA-4220-A5A4-9826478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B470B-DDDF-4CE4-A765-28C1BB0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E939F-5075-4DB2-8D0C-67513E3F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E95C0-1713-4E21-ABD8-F31C911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A5B46-991B-4D84-9486-A9B9097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24A47-E52C-41D8-96E8-AD49729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0C8FB-B11A-4F2A-950A-0C334B4E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30A75-A90E-4D28-8EC4-102FA56A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312-AFAA-4284-8ECE-CDEA0041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7D645-D136-4235-8F77-19A9D114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B57B5-6FEC-4662-B2FE-2E3CE6D0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7DCB0-32C3-41CE-BF1A-3BB625C1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AB060-A3BB-489C-92A5-7704FA43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4BEE3-1D8B-49F7-9F86-B301784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A6222-A17F-4D0E-9484-045C6113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782B3-4BF4-4F41-BEE4-5B9BF8B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957C3-0422-4709-957D-454CD9E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7EE71-F57D-4B52-A964-8C97302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0C124-9636-4F84-A494-09F296C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EDC-CD0D-46C1-B482-4394803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54C73-8BC2-4B22-81CD-8CB220E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6385F-3724-42CF-904C-E01DD3EC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70CAF-C1B8-47A1-8128-1ADA73AB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FB54B-E641-47EF-81B9-7499AB9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9C35D-13B3-4127-A828-E72CDFF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2B013-9043-4CC9-92A9-D76A7EC8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DF25C-0B30-4D98-A5C2-C6FA52B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590B1-9ECC-4CA4-BD44-8125E9C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3C777-A9BE-4BDE-ACB4-EFDF3B1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FA080-C7D0-4B18-BCD9-F701F331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25D-E76C-40F8-B898-1FC28643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46F9-3584-441A-900B-6F7A35D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8E8BD-BB4A-48CB-9A89-A628DE4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DCFC9-E797-4E8C-B963-C53BABB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1A692-D85A-4C6A-A73A-693B339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452AB-99D5-45AD-B1AB-F249AB9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8B344-174C-4806-A1B0-1FA770BD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AA25C-32AD-48AE-9073-DD7D4FCC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8FAE7-FA77-49F0-8203-438D134D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236E6-0BF2-4C1C-AE38-4B48F987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1F6FB-E47B-4490-A904-01B9C4E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7FCD5-5BB9-425B-8B3C-40CB0AC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248-8E26-4B19-924F-4CEC21F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8F6AD-3A7F-4064-AEA7-A3F7678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B3BDF-A422-4D6E-A2B0-BE298B6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0ED2B-6091-4F42-8063-4BA98C9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E29FA-1DC0-4FB8-8671-2D1ADEB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8BF94-ED94-4990-AFA9-B7D6213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BBA11-62D5-45BF-A5E6-248DF114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D226F-C1B0-44F4-95EB-955773CC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24E9F-CAEF-4DDA-B3B0-583BEA54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53655-2774-4A7A-9770-9F6E23D7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BB6B0-7D73-463B-BAEF-E7FAE9A8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4B6D-C723-4E07-B6F2-AED4C3A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27D32-1317-4D82-9F89-AA95910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CC4B4-A6F3-4C4C-ACC4-9275159D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69632-0608-458A-8C84-5DCD6E6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4A497-FC2E-4D2E-94CC-A7F8FC33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F5E12-5F3E-44AB-8511-6987B18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9BABD-52FF-46DB-BB04-17441D1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A1A4A-CBBD-422A-9B32-8367224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618A0-81D7-4899-9518-3400B4FC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96DA5-A21D-4724-A8D3-15CA5718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2981F-4F29-49E6-9929-AF7791AD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618-E186-4886-8C15-FAFD7C6A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D90A2-EB15-4644-8BEE-F0EBA12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BDCCB-483B-4104-8504-D890EF8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1270E-D5C1-4508-A8CE-A8EFE6D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E3BE74-BCED-4155-BC6A-ADEF615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1FCD0-7C7E-492D-8468-0CBAC51E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FC221-0473-4B27-92B0-E313399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B84B3-74CB-4A14-9217-AB9FFA1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08464-C865-4731-AD22-F3DBDA64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37F50-3330-41A4-ACBB-3835F7B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307FE-89D7-4196-B37B-C375E56B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613-F9E9-402F-B77C-164E9BEB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70398-3F4F-4B8B-8A3A-6BBAD57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1B4FE-1458-4F9B-8E17-1FFEF736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36BD0-D440-4C07-AA5A-3C1ACEC1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29A70-D3FE-476B-934E-D936AF26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02741-A18E-49CA-A1C1-E1AAD21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25009-9079-4CA2-91A7-09872F5D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7DB8B-C57B-462A-ADC2-BCC53ED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A5EFE-49EF-440E-B6BE-E185794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C1F67-EBFB-420B-9433-B51CAE5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37278-54A1-41F3-90DE-33CD019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0FA4-3251-4904-9496-BAB84EDC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0DDB0-038B-4444-8052-6380ACC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6A35A-EDD4-4B20-A550-FFF40FBB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AFC2C-A007-4BE2-BA02-8E9EC0ED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1359-6725-4BD7-ACA4-4F9618C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CE42-E939-4157-AF1A-67082A8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346B-C8AB-4FB4-A4C7-9409453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09BB-B568-4887-B493-ABB3F6D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F29-1788-472B-9BF4-168E45F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5E52-101C-4D01-92F1-CA7009A8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1CD0-BA46-4A58-AA51-BA243F1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705D-A2B6-4A13-8244-DBE57E3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617B-1F21-4B83-AD3E-BF5ADB1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FE12-8D02-43B3-9EFD-E5EE92A3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252E-F3C9-420B-A4A5-05571CF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EB63-8ADC-4737-AB42-B3BFBA70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7EB4-FDA8-4C20-962C-B5E001A8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F80D-6BA7-4761-A3D9-C620F1F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AB40-0935-40E2-A36E-511C69B6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63A-E2A8-480A-B877-76476DE9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65B8-5AB5-46E2-87B2-9551910A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4A8F-5197-4244-AF34-9ABE4964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9A5F-F10F-4904-9B0D-6938895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53EA-660C-41A0-AD6F-4647D3B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7A0A-8981-4E44-BCE2-1E3CD315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F12F-397C-4987-8BC5-415B647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2A93-EE84-42EB-9ADE-05CA2A50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25EC-1476-4981-8B64-F455C6F5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EFFD-81EB-4BB4-818E-61B1D5C6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E48A5-5E5C-4A09-9FE5-2F37213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3C2-E3DE-4B11-A6BA-9F6A9FE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106F-1DD9-4D10-B46C-2E18D0BA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2EA2-E410-45CA-9D4E-DD4BC87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1000-DADE-4EE9-8387-C2445742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D08D-61B5-4A59-8661-1F7CFB2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D946-7551-4A66-B40F-28E3FBD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D4F6-12A3-4774-832B-64DCE2D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4ACD-7ACF-4188-9416-C8131AE8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A318-044E-402F-83A3-A6F1BED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09E5-80B6-4003-8D5A-3B3A6B5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0B1C-3147-4D31-AAFD-8B2DB99C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5D4-84B0-4228-8F32-CA07BC1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15D4-87B2-4FBE-BB74-48B0D07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EDCF4-DB47-4B12-9D17-45ABB086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2C6E-289A-4ECD-9627-9EEA79F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31CFA-2DC7-4224-9352-FB2C6B6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795F9-FCC5-467F-832E-40ADC9F3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8974-C14A-4982-90A2-4103D3C1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B2E31-9FE9-449F-AA67-6562B24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98409-CD78-4134-BDAD-3D03EFF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1E25-9935-48B9-9109-C4F6877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3FF1-7371-40BF-BAD6-0AD186C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98F-C86D-4355-AB8C-E450554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F7F2-1547-473A-B65C-4EFAB8CA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72CD-07B7-45AD-AB61-C36EE65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5302-1C14-489D-BCEB-A9A6BEF2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F42A-FA81-45EF-92C5-3B59792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AD64-CF0E-425A-8B80-C977FF34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CDC2D-C0CD-4900-97A3-A67F1D45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982C-B97D-4155-891E-6DA58BA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7A54-8515-4162-950C-580E771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05E3-2412-4BD5-BB4B-191B730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063D-E363-45A7-AB70-5A48D0E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9FE-7D30-4BF1-BFF4-C7C041D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C04A-57B1-4212-A47B-5E9BE81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1F23-D18F-4518-BE6E-31C8B45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947E4-FC19-4EAE-942B-A0994E1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D091-C46F-4CFE-813A-B2E70DA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D815-682A-4841-AA28-322D4EDA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A7CE9-4802-43DD-BFDB-55174314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F4D7-1675-4E60-9372-99CD267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D5C9A-8A3F-4140-98BF-8FEA1DF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8F37-D929-4057-A5B2-63EAFD0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35E8-BCE8-4295-AD59-2557BD4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39B-2EA8-4371-9A40-79538C4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8186-C4BA-4E59-94CF-4D299A92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657FA-A012-4CBE-BEAA-29F6B44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5EAC-F6BD-42B9-8372-017CE36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18A1-467A-455E-AC33-722DD58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89B1-34F8-48C5-8CED-990EAB0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4FA0-F95A-440C-B19E-18D48EB7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8C3E8-2C0D-4F94-94B1-5B6A58DA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0F81D-545C-411C-B6D3-B57F2D19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958B-B158-4881-8C71-F3F44D9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D323-9A66-4650-8FBA-212AED6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C5EF-CDDA-47D0-8E9A-893294957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9D09-4D7E-45CF-8819-9337C849F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A713-C0B2-4CE9-B260-6A1E1E0A4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9914-36E6-4396-B7BD-7DEED229C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5C1-7F55-4A60-8A79-23AB96826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F4B0-5653-4A3F-8768-4446724BE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4B0F-95D0-492B-9B4B-8DBC6F040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E90-05ED-4A55-B916-5BF9BEAB9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053-D4B6-4E34-9B7B-062ADC6C8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8E3-323A-4540-901D-26BADD556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E5A-322B-44CA-9BA0-1C6BE4330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0B1-A712-4830-98A6-DE1E5C057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79E-32D6-48DE-BB93-9924799C7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828-E5EA-49BA-9D6A-76EEE1E88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C589-8CCE-4718-BE0E-1E3F982B6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86A0-4F37-49B5-8793-118772466E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FDC-C170-4152-8F66-C9D0979DA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945C-E352-41DB-9C55-067A2819B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DD6B-032B-4CAA-9E1C-31C1164AA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115-C96E-4163-A9EF-EA573B0A2C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1E1-D289-4F12-869C-0CF7ACB7A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9B96-4F48-4323-B938-E369225CC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004-327C-4800-B63B-227E42031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DBB0-F53C-4744-9FDD-37A651F5D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B1A-3FB1-4E9A-891B-A8641ED3A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C13D-C1F6-4195-B219-FF88B648C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33F-39CB-4A97-85B1-84EF55C49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636-607B-4746-A6BD-FBCD79868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DC54-696E-40C4-91C5-7BC16B7D3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91C9-593F-4222-B1ED-01CF2BC1F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94CE-E492-4916-9D0B-9FFAC65E9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CF83-A746-42D0-B51B-1977150A4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F41E-0157-4B37-9007-E1EC673F2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123-DCEC-45E7-A3E4-5C16CEF0D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3A3E-211E-40C6-9D33-A62755718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3A5-6482-4162-A83A-8FF8ACF3D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98B-1AAF-48C2-A7D8-391B2B105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1E0-5BAB-4DDE-9F99-BFF0C7349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DFC-4146-4886-99C5-988B86441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D86B-A2B6-4C59-B0D8-9F0CA15DB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00040" y="804960"/>
            <a:ext cx="8143920" cy="5248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3080" y="21985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60640" y="21859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848200" y="21621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31080" y="21621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95640" y="40147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877000" y="40147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195640" y="56275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877000" y="5641920"/>
            <a:ext cx="12240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19160" y="2419200"/>
            <a:ext cx="8905680" cy="201960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1" descr=""/>
          <p:cNvPicPr/>
          <p:nvPr/>
        </p:nvPicPr>
        <p:blipFill>
          <a:blip r:embed="rId2"/>
          <a:stretch/>
        </p:blipFill>
        <p:spPr>
          <a:xfrm>
            <a:off x="822240" y="3213000"/>
            <a:ext cx="3524400" cy="122868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9412" descr=""/>
          <p:cNvPicPr/>
          <p:nvPr/>
        </p:nvPicPr>
        <p:blipFill>
          <a:blip r:embed="rId3"/>
          <a:stretch/>
        </p:blipFill>
        <p:spPr>
          <a:xfrm>
            <a:off x="4897440" y="3222720"/>
            <a:ext cx="33433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66680" y="1028880"/>
            <a:ext cx="8810640" cy="4800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8375" descr=""/>
          <p:cNvPicPr/>
          <p:nvPr/>
        </p:nvPicPr>
        <p:blipFill>
          <a:blip r:embed="rId3"/>
          <a:stretch/>
        </p:blipFill>
        <p:spPr>
          <a:xfrm>
            <a:off x="1432080" y="305424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8376" descr=""/>
          <p:cNvPicPr/>
          <p:nvPr/>
        </p:nvPicPr>
        <p:blipFill>
          <a:blip r:embed="rId4"/>
          <a:stretch/>
        </p:blipFill>
        <p:spPr>
          <a:xfrm>
            <a:off x="1422360" y="353376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8377" descr=""/>
          <p:cNvPicPr/>
          <p:nvPr/>
        </p:nvPicPr>
        <p:blipFill>
          <a:blip r:embed="rId5"/>
          <a:stretch/>
        </p:blipFill>
        <p:spPr>
          <a:xfrm>
            <a:off x="1413000" y="401328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8378" descr=""/>
          <p:cNvPicPr/>
          <p:nvPr/>
        </p:nvPicPr>
        <p:blipFill>
          <a:blip r:embed="rId6"/>
          <a:stretch/>
        </p:blipFill>
        <p:spPr>
          <a:xfrm>
            <a:off x="4676760" y="306072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8379" descr=""/>
          <p:cNvPicPr/>
          <p:nvPr/>
        </p:nvPicPr>
        <p:blipFill>
          <a:blip r:embed="rId7"/>
          <a:stretch/>
        </p:blipFill>
        <p:spPr>
          <a:xfrm>
            <a:off x="4667400" y="354024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80" descr=""/>
          <p:cNvPicPr/>
          <p:nvPr/>
        </p:nvPicPr>
        <p:blipFill>
          <a:blip r:embed="rId8"/>
          <a:stretch/>
        </p:blipFill>
        <p:spPr>
          <a:xfrm>
            <a:off x="4672080" y="401940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9"/>
          <a:stretch/>
        </p:blipFill>
        <p:spPr>
          <a:xfrm>
            <a:off x="3708360" y="5084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0"/>
          <a:stretch/>
        </p:blipFill>
        <p:spPr>
          <a:xfrm>
            <a:off x="5796000" y="5084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1"/>
          <a:stretch/>
        </p:blipFill>
        <p:spPr>
          <a:xfrm>
            <a:off x="971640" y="5445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2"/>
          <a:stretch/>
        </p:blipFill>
        <p:spPr>
          <a:xfrm>
            <a:off x="3573360" y="544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3"/>
          <a:stretch/>
        </p:blipFill>
        <p:spPr>
          <a:xfrm>
            <a:off x="6075360" y="544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4"/>
          <a:stretch/>
        </p:blipFill>
        <p:spPr>
          <a:xfrm>
            <a:off x="8504280" y="2449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5"/>
          <a:stretch/>
        </p:blipFill>
        <p:spPr>
          <a:xfrm>
            <a:off x="8504280" y="2862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6"/>
          <a:stretch/>
        </p:blipFill>
        <p:spPr>
          <a:xfrm>
            <a:off x="850428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7"/>
          <a:stretch/>
        </p:blipFill>
        <p:spPr>
          <a:xfrm>
            <a:off x="8604360" y="36972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8"/>
          <a:stretch/>
        </p:blipFill>
        <p:spPr>
          <a:xfrm>
            <a:off x="8604360" y="4105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9"/>
          <a:stretch/>
        </p:blipFill>
        <p:spPr>
          <a:xfrm>
            <a:off x="8388360" y="4518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0"/>
          <a:stretch/>
        </p:blipFill>
        <p:spPr>
          <a:xfrm>
            <a:off x="8388360" y="4941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1"/>
          <a:stretch/>
        </p:blipFill>
        <p:spPr>
          <a:xfrm>
            <a:off x="8388360" y="536400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9:20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